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159-2AB3-40A5-A185-ADB4F14E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AB5-7BB2-461C-9E14-F27E98AF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DAA-02BD-41E8-9685-144F1911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CAB-525D-474E-B14D-3EA8F77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055E-1CFF-4E84-8B58-7E7AE7FF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CF83-EED8-4AFE-8360-5C204B4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C4B-DE98-44F4-9D0E-A5467C2C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E0F-A2E3-468D-8F34-9FE05B4F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24CB-F321-4A06-AC3F-97AFD42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48A-AAA0-45A6-AEBE-706317F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1E3-2BD2-44B7-8DBB-578E098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3FD-F0ED-41DC-86B1-1E2B161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BED4-FF6F-4E51-82F2-2EDFAA4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379-2162-4BB5-9D52-48A23DF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93FE-776F-4BA5-9AD3-F5A7A3A8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8234-6C60-4193-9A3F-AC03B2ED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F55-F35C-4D9E-9857-6B7AC16D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BBC-A86E-4B9B-AE81-111EA43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BA5-E580-4181-9CD7-CDE75CD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832-5A8F-4E71-87C3-4123E2E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024-EC36-49AF-95BE-F434B68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DCB-1193-4682-A41C-825CE1F2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4C0-70DE-415F-91C8-C7074EC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8DF-AE16-49B4-97E1-53D13C2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D84-5697-48BE-A126-332D6E2E4F2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8E8-CDFB-4D45-9060-0AF0A817FD2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em.onet.pl/wiem/012648.html" TargetMode="External"/><Relationship Id="rId2" Type="http://schemas.openxmlformats.org/officeDocument/2006/relationships/hyperlink" Target="http://wiem.onet.pl/wiem/0070e7.html" TargetMode="External"/><Relationship Id="rId3" Type="http://schemas.openxmlformats.org/officeDocument/2006/relationships/hyperlink" Target="http://wiem.onet.pl/wiem/009c8e.html" TargetMode="External"/><Relationship Id="rId4" Type="http://schemas.openxmlformats.org/officeDocument/2006/relationships/hyperlink" Target="http://wiem.onet.pl/wiem/004c88.html" TargetMode="External"/><Relationship Id="rId5" Type="http://schemas.openxmlformats.org/officeDocument/2006/relationships/hyperlink" Target="http://wiem.onet.pl/wiem/007e09.html" TargetMode="External"/><Relationship Id="rId6" Type="http://schemas.openxmlformats.org/officeDocument/2006/relationships/hyperlink" Target="http://wiem.onet.pl/wiem/007e09.html" TargetMode="External"/><Relationship Id="rId7" Type="http://schemas.openxmlformats.org/officeDocument/2006/relationships/hyperlink" Target="http://wiem.onet.pl/wiem/00e169.html" TargetMode="External"/><Relationship Id="rId8" Type="http://schemas.openxmlformats.org/officeDocument/2006/relationships/hyperlink" Target="http://wiem.onet.pl/wiem/0112a9.html" TargetMode="External"/><Relationship Id="rId9" Type="http://schemas.openxmlformats.org/officeDocument/2006/relationships/hyperlink" Target="http://wiem.onet.pl/wiem/00ad9d.html" TargetMode="External"/><Relationship Id="rId10" Type="http://schemas.openxmlformats.org/officeDocument/2006/relationships/hyperlink" Target="http://wiem.onet.pl/wiem/004cfe.html" TargetMode="External"/><Relationship Id="rId11" Type="http://schemas.openxmlformats.org/officeDocument/2006/relationships/hyperlink" Target="http://wiem.onet.pl/wiem/002e30.html" TargetMode="External"/><Relationship Id="rId12" Type="http://schemas.openxmlformats.org/officeDocument/2006/relationships/hyperlink" Target="http://wiem.onet.pl/wiem/012bbb.html" TargetMode="External"/><Relationship Id="rId13" Type="http://schemas.openxmlformats.org/officeDocument/2006/relationships/hyperlink" Target="http://wiem.onet.pl/wiem/012bbb.html" TargetMode="External"/><Relationship Id="rId14" Type="http://schemas.openxmlformats.org/officeDocument/2006/relationships/hyperlink" Target="http://wiem.onet.pl/wiem/010b76.html" TargetMode="External"/><Relationship Id="rId15" Type="http://schemas.openxmlformats.org/officeDocument/2006/relationships/hyperlink" Target="http://wiem.onet.pl/wiem/010b76.html" TargetMode="External"/><Relationship Id="rId16" Type="http://schemas.openxmlformats.org/officeDocument/2006/relationships/hyperlink" Target="http://wiem.onet.pl/wiem/00e15d.html" TargetMode="External"/><Relationship Id="rId17" Type="http://schemas.openxmlformats.org/officeDocument/2006/relationships/hyperlink" Target="http://wiem.onet.pl/wiem/00e15d.html" TargetMode="External"/><Relationship Id="rId18" Type="http://schemas.openxmlformats.org/officeDocument/2006/relationships/hyperlink" Target="http://wiem.onet.pl/wiem/00e15d.html" TargetMode="External"/><Relationship Id="rId19" Type="http://schemas.openxmlformats.org/officeDocument/2006/relationships/hyperlink" Target="http://wiem.onet.pl/wiem/00e15d.html" TargetMode="External"/><Relationship Id="rId20" Type="http://schemas.openxmlformats.org/officeDocument/2006/relationships/hyperlink" Target="http://wiem.onet.pl/wiem/00e15d.html" TargetMode="External"/><Relationship Id="rId21" Type="http://schemas.openxmlformats.org/officeDocument/2006/relationships/slide" Target="slide2.xm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762120"/>
            <a:ext cx="6933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kcje trygonometryczn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352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j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029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105520"/>
            <a:ext cx="350532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gnieszka Michalik-Srok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spół Szkół Rolnicze CK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Times New Roman"/>
              </a:rPr>
              <a:t>32-070 </a:t>
            </a:r>
            <a:r>
              <a:rPr b="0" lang="pl-P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zernichów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012) 270 20 1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Times New Roman"/>
              </a:rPr>
              <a:t>Konspekt lekcj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371600" y="1600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1371600" y="2209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1371600" y="1600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152280" y="64008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ni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9210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inic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6320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Ćwicz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343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ada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Times New Roman"/>
              </a:rPr>
              <a:t>Historia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179360"/>
            <a:ext cx="708660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aeaea"/>
                </a:solidFill>
                <a:latin typeface="Verdana"/>
              </a:rPr>
              <a:t>Trygonometria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(z greckiego "trigonon" - trójkąt i "metron" - miara), dział geometrii badający relacje pomiędzy kątami a bokami początkowo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"/>
              </a:rPr>
              <a:t>trójkątów</a:t>
            </a:r>
            <a:r>
              <a:rPr b="0" lang="pl-PL" sz="1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(trygonometria płaska) i 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2"/>
              </a:rPr>
              <a:t>trójkątów sferycznych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(trygonometria sferyczna), a później i innych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3"/>
              </a:rPr>
              <a:t>wielokątów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Trygonometria zaczęła kształtować się już w starożytności, głównie w związku z rozwojem astronomii i technik nawigacyjnych. Pierwsze tablice trygonometryczne ułożył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4"/>
              </a:rPr>
              <a:t>Hipparch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. Tablice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5"/>
              </a:rPr>
              <a:t>Ptolemeusza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6"/>
              </a:rPr>
              <a:t> Klaudiusza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zawierały długości cięciw okręgu równoważne wartościom funkcji 2 sin x w zakresie od 0° do kąta prostego, badał on też własności trójkątów sferycznych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Wielki wkład w rozwój trygonometrii wnieśli uczeni arabscy: Muhammed ibn Musa Alchwarizmi (IX w.), Al-Batani (X w.), Abu'l Wefa (940-998), Nasir ad-Din, (XIII w.). Ok. X w. Arabom znane były już (pod in. nazwami) funkcje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7"/>
              </a:rPr>
              <a:t>sinus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8"/>
              </a:rPr>
              <a:t>cosinus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9"/>
              </a:rPr>
              <a:t>tangens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i 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0"/>
              </a:rPr>
              <a:t>cotangens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W Europie funkcje trygonometryczne pojawiły się w XIV w., wprowadził je angielski uczony T. Bradwardine (1290-1349). W XV w. ówczesną wiedzę trygonometryczną usystematyzował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1"/>
              </a:rPr>
              <a:t>Regiomontanus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. Dalszy rozwój trygonometrii nastąpił dzięki pracom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2"/>
              </a:rPr>
              <a:t>J.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3"/>
              </a:rPr>
              <a:t>Nepera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, F. Viéte'a,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4"/>
              </a:rPr>
              <a:t>L.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5"/>
              </a:rPr>
              <a:t>Eulera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(od niego pochodzą dzisiejsze nazwy funkcji trygonometrycznych) i 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6"/>
              </a:rPr>
              <a:t>J.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7"/>
              </a:rPr>
              <a:t>le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8"/>
              </a:rPr>
              <a:t> Rond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19"/>
              </a:rPr>
              <a:t> </a:t>
            </a:r>
            <a:r>
              <a:rPr b="0" lang="pl-PL" sz="1400" spc="-1" strike="noStrike" u="sng">
                <a:solidFill>
                  <a:srgbClr val="ff33cc"/>
                </a:solidFill>
                <a:uFillTx/>
                <a:latin typeface="Verdana"/>
                <a:hlinkClick r:id="rId20"/>
              </a:rPr>
              <a:t>d'Alemberta</a:t>
            </a:r>
            <a:r>
              <a:rPr b="0" lang="pl-PL" sz="1400" spc="-1" strike="noStrike">
                <a:solidFill>
                  <a:srgbClr val="eaeaea"/>
                </a:solidFill>
                <a:latin typeface="Verdana"/>
              </a:rPr>
              <a:t> (trygonometria sferyczna).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>
            <a:hlinkClick r:id="rId21" action="ppaction://hlinksldjump"/>
          </p:cNvPr>
          <p:cNvSpPr/>
          <p:nvPr/>
        </p:nvSpPr>
        <p:spPr>
          <a:xfrm>
            <a:off x="7924680" y="6324480"/>
            <a:ext cx="1067040" cy="38124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419" h="21600">
                <a:moveTo>
                  <a:pt x="0" y="0"/>
                </a:moveTo>
                <a:lnTo>
                  <a:pt x="60419" y="0"/>
                </a:lnTo>
                <a:lnTo>
                  <a:pt x="60419" y="21600"/>
                </a:lnTo>
                <a:lnTo>
                  <a:pt x="0" y="21600"/>
                </a:lnTo>
                <a:close/>
              </a:path>
              <a:path fill="lightenLess" w="60419" h="21600">
                <a:moveTo>
                  <a:pt x="0" y="0"/>
                </a:moveTo>
                <a:lnTo>
                  <a:pt x="60419" y="0"/>
                </a:lnTo>
                <a:lnTo>
                  <a:pt x="59019" y="1400"/>
                </a:lnTo>
                <a:lnTo>
                  <a:pt x="1400" y="1400"/>
                </a:lnTo>
                <a:close/>
              </a:path>
              <a:path fill="darken" w="60419" h="21600">
                <a:moveTo>
                  <a:pt x="60419" y="0"/>
                </a:moveTo>
                <a:lnTo>
                  <a:pt x="60419" y="21600"/>
                </a:lnTo>
                <a:lnTo>
                  <a:pt x="59019" y="20200"/>
                </a:lnTo>
                <a:lnTo>
                  <a:pt x="59019" y="1400"/>
                </a:lnTo>
                <a:close/>
              </a:path>
              <a:path fill="darkenLess" w="60419" h="21600">
                <a:moveTo>
                  <a:pt x="60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9" y="20200"/>
                </a:lnTo>
                <a:close/>
              </a:path>
              <a:path fill="lighten" w="60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19" h="21600">
                <a:moveTo>
                  <a:pt x="23203" y="10800"/>
                </a:moveTo>
                <a:lnTo>
                  <a:pt x="37216" y="3794"/>
                </a:lnTo>
                <a:lnTo>
                  <a:pt x="37216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zeciwprostokąt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480" y="2895480"/>
            <a:ext cx="457200" cy="60984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29200" y="4876560"/>
            <a:ext cx="0" cy="5331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525780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zyprostokątna leżąca przy kącie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3505320"/>
            <a:ext cx="53316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zyprostokątna leżąca naprzeciwko kąta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114800" y="1905120"/>
            <a:ext cx="1905120" cy="3809880"/>
            <a:chOff x="4114800" y="1905120"/>
            <a:chExt cx="1905120" cy="3809880"/>
          </a:xfrm>
        </p:grpSpPr>
        <p:sp>
          <p:nvSpPr>
            <p:cNvPr id="115" name=""/>
            <p:cNvSpPr/>
            <p:nvPr/>
          </p:nvSpPr>
          <p:spPr>
            <a:xfrm>
              <a:off x="4114800" y="1905120"/>
              <a:ext cx="1905120" cy="2971800"/>
            </a:xfrm>
            <a:prstGeom prst="rtTriangle">
              <a:avLst/>
            </a:prstGeom>
            <a:solidFill>
              <a:srgbClr val="eeb00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181480" y="4038480"/>
              <a:ext cx="609120" cy="167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Times New Roman"/>
              </a:rPr>
              <a:t>Definicje c.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1905120"/>
            <a:ext cx="7772400" cy="1069200"/>
            <a:chOff x="1371600" y="1905120"/>
            <a:chExt cx="7772400" cy="1069200"/>
          </a:xfrm>
        </p:grpSpPr>
        <p:sp>
          <p:nvSpPr>
            <p:cNvPr id="120" name=""/>
            <p:cNvSpPr/>
            <p:nvPr/>
          </p:nvSpPr>
          <p:spPr>
            <a:xfrm>
              <a:off x="2362320" y="1905120"/>
              <a:ext cx="67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naprzeciwko kąta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2438280"/>
              <a:ext cx="6332400" cy="18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2514600"/>
              <a:ext cx="544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eciwprostokątnej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2209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in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71600" y="3809880"/>
            <a:ext cx="7619760" cy="1131120"/>
            <a:chOff x="1371600" y="3809880"/>
            <a:chExt cx="7619760" cy="1131120"/>
          </a:xfrm>
        </p:grpSpPr>
        <p:sp>
          <p:nvSpPr>
            <p:cNvPr id="125" name=""/>
            <p:cNvSpPr/>
            <p:nvPr/>
          </p:nvSpPr>
          <p:spPr>
            <a:xfrm>
              <a:off x="2438280" y="3809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przy kącie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411444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os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4343040"/>
              <a:ext cx="6184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08240" y="4481280"/>
              <a:ext cx="55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eciwprostokątnej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172200"/>
            <a:ext cx="1219320" cy="533520"/>
          </a:xfrm>
          <a:custGeom>
            <a:avLst/>
            <a:gdLst>
              <a:gd name="textAreaLeft" fmla="*/ 62640 w 1219320"/>
              <a:gd name="textAreaRight" fmla="*/ 1156680 w 12193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493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46" y="21600"/>
                </a:lnTo>
                <a:arcTo wR="3600" hR="3600" stAng="10800000" swAng="5400000"/>
                <a:lnTo>
                  <a:pt x="49346" y="3600"/>
                </a:lnTo>
                <a:arcTo wR="3600" hR="3600" stAng="5400000" swAng="5400000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70866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Times New Roman"/>
              </a:rPr>
              <a:t>Definicje c.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95280" y="1828800"/>
            <a:ext cx="7848360" cy="1191240"/>
            <a:chOff x="1295280" y="1828800"/>
            <a:chExt cx="7848360" cy="1191240"/>
          </a:xfrm>
        </p:grpSpPr>
        <p:grpSp>
          <p:nvGrpSpPr>
            <p:cNvPr id="134" name=""/>
            <p:cNvGrpSpPr/>
            <p:nvPr/>
          </p:nvGrpSpPr>
          <p:grpSpPr>
            <a:xfrm>
              <a:off x="1295280" y="2153880"/>
              <a:ext cx="7537320" cy="459720"/>
              <a:chOff x="1295280" y="2153880"/>
              <a:chExt cx="753732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1295280" y="2153880"/>
                <a:ext cx="93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tg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05080" y="2397240"/>
                <a:ext cx="65275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05080" y="1828800"/>
              <a:ext cx="68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naprzeciwko kąta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05080" y="2560320"/>
              <a:ext cx="68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przy kącie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1600" y="3429000"/>
            <a:ext cx="7772400" cy="1069200"/>
            <a:chOff x="1371600" y="3429000"/>
            <a:chExt cx="7772400" cy="1069200"/>
          </a:xfrm>
        </p:grpSpPr>
        <p:sp>
          <p:nvSpPr>
            <p:cNvPr id="140" name=""/>
            <p:cNvSpPr/>
            <p:nvPr/>
          </p:nvSpPr>
          <p:spPr>
            <a:xfrm>
              <a:off x="1371600" y="3733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tg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38280" y="3962160"/>
              <a:ext cx="647712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40384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naprzeciwko kąta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342900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ługość przyprostokątnej leżącej przy kącie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0" y="6172200"/>
            <a:ext cx="1219320" cy="533520"/>
          </a:xfrm>
          <a:custGeom>
            <a:avLst/>
            <a:gdLst>
              <a:gd name="textAreaLeft" fmla="*/ 62640 w 1219320"/>
              <a:gd name="textAreaRight" fmla="*/ 1156680 w 12193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493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46" y="21600"/>
                </a:lnTo>
                <a:arcTo wR="3600" hR="3600" stAng="10800000" swAng="5400000"/>
                <a:lnTo>
                  <a:pt x="49346" y="3600"/>
                </a:lnTo>
                <a:arcTo wR="3600" hR="3600" stAng="5400000" swAng="5400000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162920" y="624852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311" h="21600">
                <a:moveTo>
                  <a:pt x="42649" y="3794"/>
                </a:moveTo>
                <a:lnTo>
                  <a:pt x="56662" y="10800"/>
                </a:lnTo>
                <a:lnTo>
                  <a:pt x="42649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ćwiczeni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624852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10800"/>
                </a:moveTo>
                <a:lnTo>
                  <a:pt x="35072" y="3794"/>
                </a:lnTo>
                <a:lnTo>
                  <a:pt x="35072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Times New Roman"/>
              </a:rPr>
              <a:t>Ćwiczen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Times New Roman"/>
              </a:rPr>
              <a:t>Wypisz funkcje trygonometryczne dla trójkątów prostokątny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47920" y="2133720"/>
            <a:ext cx="2895120" cy="3732840"/>
            <a:chOff x="1447920" y="2133720"/>
            <a:chExt cx="2895120" cy="3732840"/>
          </a:xfrm>
        </p:grpSpPr>
        <p:sp>
          <p:nvSpPr>
            <p:cNvPr id="151" name=""/>
            <p:cNvSpPr/>
            <p:nvPr/>
          </p:nvSpPr>
          <p:spPr>
            <a:xfrm>
              <a:off x="1654560" y="2590560"/>
              <a:ext cx="2688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999080" y="2589840"/>
              <a:ext cx="1723320" cy="3276360"/>
            </a:xfrm>
            <a:prstGeom prst="rtTriangl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78200" y="2595600"/>
              <a:ext cx="426240" cy="788400"/>
            </a:xfrm>
            <a:custGeom>
              <a:avLst/>
              <a:gdLst/>
              <a:ahLst/>
              <a:rect l="l" t="t" r="r" b="b"/>
              <a:pathLst>
                <a:path w="297" h="497">
                  <a:moveTo>
                    <a:pt x="0" y="0"/>
                  </a:moveTo>
                  <a:cubicBezTo>
                    <a:pt x="10" y="93"/>
                    <a:pt x="21" y="266"/>
                    <a:pt x="108" y="324"/>
                  </a:cubicBezTo>
                  <a:cubicBezTo>
                    <a:pt x="132" y="396"/>
                    <a:pt x="96" y="312"/>
                    <a:pt x="144" y="360"/>
                  </a:cubicBezTo>
                  <a:cubicBezTo>
                    <a:pt x="192" y="408"/>
                    <a:pt x="108" y="372"/>
                    <a:pt x="180" y="396"/>
                  </a:cubicBezTo>
                  <a:cubicBezTo>
                    <a:pt x="200" y="455"/>
                    <a:pt x="172" y="397"/>
                    <a:pt x="216" y="432"/>
                  </a:cubicBezTo>
                  <a:cubicBezTo>
                    <a:pt x="274" y="479"/>
                    <a:pt x="193" y="445"/>
                    <a:pt x="261" y="468"/>
                  </a:cubicBezTo>
                  <a:cubicBezTo>
                    <a:pt x="290" y="497"/>
                    <a:pt x="275" y="495"/>
                    <a:pt x="297" y="495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3360" y="26668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733560"/>
              <a:ext cx="4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19720" y="2133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4240" y="40384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38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71840" y="1790640"/>
            <a:ext cx="2514960" cy="3276720"/>
            <a:chOff x="6171840" y="1790640"/>
            <a:chExt cx="2514960" cy="3276720"/>
          </a:xfrm>
        </p:grpSpPr>
        <p:sp>
          <p:nvSpPr>
            <p:cNvPr id="160" name=""/>
            <p:cNvSpPr/>
            <p:nvPr/>
          </p:nvSpPr>
          <p:spPr>
            <a:xfrm flipH="1" flipV="1">
              <a:off x="6171480" y="2400480"/>
              <a:ext cx="2057400" cy="2666880"/>
            </a:xfrm>
            <a:prstGeom prst="rtTriangl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4000680"/>
              <a:ext cx="728640" cy="169920"/>
            </a:xfrm>
            <a:custGeom>
              <a:avLst/>
              <a:gdLst/>
              <a:ahLst/>
              <a:rect l="l" t="t" r="r" b="b"/>
              <a:pathLst>
                <a:path w="459" h="107">
                  <a:moveTo>
                    <a:pt x="0" y="107"/>
                  </a:moveTo>
                  <a:cubicBezTo>
                    <a:pt x="9" y="101"/>
                    <a:pt x="19" y="97"/>
                    <a:pt x="27" y="89"/>
                  </a:cubicBezTo>
                  <a:cubicBezTo>
                    <a:pt x="35" y="81"/>
                    <a:pt x="37" y="69"/>
                    <a:pt x="45" y="62"/>
                  </a:cubicBezTo>
                  <a:cubicBezTo>
                    <a:pt x="52" y="56"/>
                    <a:pt x="64" y="57"/>
                    <a:pt x="72" y="53"/>
                  </a:cubicBezTo>
                  <a:cubicBezTo>
                    <a:pt x="119" y="29"/>
                    <a:pt x="130" y="25"/>
                    <a:pt x="189" y="17"/>
                  </a:cubicBezTo>
                  <a:cubicBezTo>
                    <a:pt x="284" y="22"/>
                    <a:pt x="388" y="0"/>
                    <a:pt x="459" y="71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48720" y="4229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3080" y="3619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62920" y="1790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05920" y="3543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956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60" h="21600">
                <a:moveTo>
                  <a:pt x="32574" y="3794"/>
                </a:moveTo>
                <a:lnTo>
                  <a:pt x="46587" y="10800"/>
                </a:lnTo>
                <a:lnTo>
                  <a:pt x="32574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prawdzeni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6172200"/>
            <a:ext cx="1219320" cy="533520"/>
          </a:xfrm>
          <a:custGeom>
            <a:avLst/>
            <a:gdLst>
              <a:gd name="textAreaLeft" fmla="*/ 62640 w 1219320"/>
              <a:gd name="textAreaRight" fmla="*/ 1156680 w 12193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493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46" y="21600"/>
                </a:lnTo>
                <a:arcTo wR="3600" hR="3600" stAng="10800000" swAng="5400000"/>
                <a:lnTo>
                  <a:pt x="49346" y="3600"/>
                </a:lnTo>
                <a:arcTo wR="3600" hR="3600" stAng="5400000" swAng="5400000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038120" y="3276720"/>
            <a:ext cx="1905480" cy="3431520"/>
            <a:chOff x="4038120" y="3276720"/>
            <a:chExt cx="1905480" cy="3431520"/>
          </a:xfrm>
        </p:grpSpPr>
        <p:sp>
          <p:nvSpPr>
            <p:cNvPr id="170" name=""/>
            <p:cNvSpPr/>
            <p:nvPr/>
          </p:nvSpPr>
          <p:spPr>
            <a:xfrm flipH="1">
              <a:off x="4037760" y="3276720"/>
              <a:ext cx="1459080" cy="2895480"/>
            </a:xfrm>
            <a:prstGeom prst="rtTriangl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7080" y="4648320"/>
              <a:ext cx="4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6920" y="6248520"/>
              <a:ext cx="4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3962520"/>
              <a:ext cx="4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4343400"/>
              <a:ext cx="457200" cy="304920"/>
            </a:xfrm>
            <a:custGeom>
              <a:avLst/>
              <a:gdLst/>
              <a:ahLst/>
              <a:rect l="l" t="t" r="r" b="b"/>
              <a:pathLst>
                <a:path w="297" h="497">
                  <a:moveTo>
                    <a:pt x="0" y="0"/>
                  </a:moveTo>
                  <a:cubicBezTo>
                    <a:pt x="10" y="93"/>
                    <a:pt x="21" y="266"/>
                    <a:pt x="108" y="324"/>
                  </a:cubicBezTo>
                  <a:cubicBezTo>
                    <a:pt x="132" y="396"/>
                    <a:pt x="96" y="312"/>
                    <a:pt x="144" y="360"/>
                  </a:cubicBezTo>
                  <a:cubicBezTo>
                    <a:pt x="192" y="408"/>
                    <a:pt x="108" y="372"/>
                    <a:pt x="180" y="396"/>
                  </a:cubicBezTo>
                  <a:cubicBezTo>
                    <a:pt x="200" y="455"/>
                    <a:pt x="172" y="397"/>
                    <a:pt x="216" y="432"/>
                  </a:cubicBezTo>
                  <a:cubicBezTo>
                    <a:pt x="274" y="479"/>
                    <a:pt x="193" y="445"/>
                    <a:pt x="261" y="468"/>
                  </a:cubicBezTo>
                  <a:cubicBezTo>
                    <a:pt x="290" y="497"/>
                    <a:pt x="275" y="495"/>
                    <a:pt x="297" y="495"/>
                  </a:cubicBezTo>
                </a:path>
              </a:pathLst>
            </a:cu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1066680"/>
            <a:ext cx="1905120" cy="4193640"/>
            <a:chOff x="1371600" y="1066680"/>
            <a:chExt cx="1905120" cy="4193640"/>
          </a:xfrm>
        </p:grpSpPr>
        <p:grpSp>
          <p:nvGrpSpPr>
            <p:cNvPr id="178" name=""/>
            <p:cNvGrpSpPr/>
            <p:nvPr/>
          </p:nvGrpSpPr>
          <p:grpSpPr>
            <a:xfrm>
              <a:off x="1371600" y="2158920"/>
              <a:ext cx="1905120" cy="3101400"/>
              <a:chOff x="1371600" y="2158920"/>
              <a:chExt cx="1905120" cy="31014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371600" y="2158920"/>
                <a:ext cx="1905120" cy="1069200"/>
                <a:chOff x="1371600" y="2158920"/>
                <a:chExt cx="1905120" cy="1069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210040" y="215892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71600" y="2463840"/>
                  <a:ext cx="114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os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 =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438640" y="2692440"/>
                  <a:ext cx="685800" cy="0"/>
                </a:xfrm>
                <a:prstGeom prst="line">
                  <a:avLst/>
                </a:prstGeom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86000" y="2768400"/>
                  <a:ext cx="99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371600" y="35560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tg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  =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438280" y="3809880"/>
                <a:ext cx="711360" cy="504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6000" y="3327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62320" y="3860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371600" y="4419720"/>
                <a:ext cx="1752120" cy="840600"/>
                <a:chOff x="1371600" y="4419720"/>
                <a:chExt cx="1752120" cy="840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371600" y="4572000"/>
                  <a:ext cx="1218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tg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  =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38280" y="4800600"/>
                  <a:ext cx="685440" cy="0"/>
                </a:xfrm>
                <a:prstGeom prst="line">
                  <a:avLst/>
                </a:prstGeom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61960" y="48006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361960" y="441972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1371600" y="1066680"/>
              <a:ext cx="1752120" cy="993240"/>
              <a:chOff x="1371600" y="1066680"/>
              <a:chExt cx="1752120" cy="993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438280" y="10666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38280" y="1600200"/>
                <a:ext cx="6854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3640" y="1600200"/>
                <a:ext cx="73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71600" y="13716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 =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3886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609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1066680"/>
            <a:ext cx="1904400" cy="4193640"/>
            <a:chOff x="6705720" y="1066680"/>
            <a:chExt cx="1904400" cy="4193640"/>
          </a:xfrm>
        </p:grpSpPr>
        <p:grpSp>
          <p:nvGrpSpPr>
            <p:cNvPr id="201" name=""/>
            <p:cNvGrpSpPr/>
            <p:nvPr/>
          </p:nvGrpSpPr>
          <p:grpSpPr>
            <a:xfrm>
              <a:off x="6705720" y="2158920"/>
              <a:ext cx="1904400" cy="3101400"/>
              <a:chOff x="6705720" y="2158920"/>
              <a:chExt cx="1904400" cy="31014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705720" y="2158920"/>
                <a:ext cx="1904400" cy="1069200"/>
                <a:chOff x="6705720" y="2158920"/>
                <a:chExt cx="1904400" cy="1069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543800" y="2158920"/>
                  <a:ext cx="1066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705720" y="246384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os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 =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772400" y="2692440"/>
                  <a:ext cx="685440" cy="0"/>
                </a:xfrm>
                <a:prstGeom prst="line">
                  <a:avLst/>
                </a:prstGeom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619760" y="27684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705720" y="35560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tg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  =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72400" y="3809880"/>
                <a:ext cx="5335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20120" y="3327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96080" y="3860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05720" y="4419720"/>
                <a:ext cx="1752120" cy="840600"/>
                <a:chOff x="6705720" y="4419720"/>
                <a:chExt cx="1752120" cy="8406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05720" y="4572000"/>
                  <a:ext cx="1218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ctg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  =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72400" y="4800600"/>
                  <a:ext cx="685440" cy="0"/>
                </a:xfrm>
                <a:prstGeom prst="line">
                  <a:avLst/>
                </a:prstGeom>
                <a:ln cap="sq"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96080" y="48006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696080" y="441972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705720" y="1066680"/>
              <a:ext cx="1752120" cy="993240"/>
              <a:chOff x="6705720" y="1066680"/>
              <a:chExt cx="1752120" cy="993240"/>
            </a:xfrm>
          </p:grpSpPr>
          <p:sp>
            <p:nvSpPr>
              <p:cNvPr id="217" name=""/>
              <p:cNvSpPr/>
              <p:nvPr/>
            </p:nvSpPr>
            <p:spPr>
              <a:xfrm>
                <a:off x="7772400" y="10666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72400" y="1600200"/>
                <a:ext cx="6854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27760" y="1600200"/>
                <a:ext cx="73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5720" y="13716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  =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66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86200" y="1143000"/>
            <a:ext cx="1905120" cy="4117320"/>
            <a:chOff x="3886200" y="1143000"/>
            <a:chExt cx="1905120" cy="4117320"/>
          </a:xfrm>
        </p:grpSpPr>
        <p:sp>
          <p:nvSpPr>
            <p:cNvPr id="223" name=""/>
            <p:cNvSpPr/>
            <p:nvPr/>
          </p:nvSpPr>
          <p:spPr>
            <a:xfrm>
              <a:off x="4724280" y="21589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2463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os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2880" y="269244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27687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6200" y="3556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tg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952880" y="3809880"/>
              <a:ext cx="711360" cy="50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3327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3860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4572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tg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480060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2880" y="160020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8600" y="1600200"/>
              <a:ext cx="7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1371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in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=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818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54080" y="99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 trójkącie prostokątnym przyprostokątna leżąca przy kącie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=45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ynosi 6 cm. Wyznacz długości pozostałych bokó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54080" y="2406600"/>
            <a:ext cx="77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zekątna prostokąta o długości 20 cm tworzy z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okie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ótszym kąt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Oblicz obwód prostokąta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54080" y="34592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Oblicz długość ramienia i wysokości w trójkącie równoramiennym, w którym kąt przy wierzchołku wynosi 50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a długość podstawy 5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54080" y="4876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Obliczyć wysokość drzewa, które rzuca na płaską powierzchnię cień o długości 8,4 m, gdy promienie słoneczne padają pod kątem 52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a tę powierzchnię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0" y="6172200"/>
            <a:ext cx="1219320" cy="533520"/>
          </a:xfrm>
          <a:custGeom>
            <a:avLst/>
            <a:gdLst>
              <a:gd name="textAreaLeft" fmla="*/ 62640 w 1219320"/>
              <a:gd name="textAreaRight" fmla="*/ 1156680 w 12193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493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46" y="21600"/>
                </a:lnTo>
                <a:arcTo wR="3600" hR="3600" stAng="10800000" swAng="5400000"/>
                <a:lnTo>
                  <a:pt x="49346" y="3600"/>
                </a:lnTo>
                <a:arcTo wR="3600" hR="3600" stAng="5400000" swAng="5400000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7:47:54Z</dcterms:created>
  <dc:creator>A MICHALIK</dc:creator>
  <dc:description/>
  <dc:language>en-US</dc:language>
  <cp:lastModifiedBy>A MICHALIK</cp:lastModifiedBy>
  <dcterms:modified xsi:type="dcterms:W3CDTF">2006-02-21T08:56:44Z</dcterms:modified>
  <cp:revision>18</cp:revision>
  <dc:subject/>
  <dc:title>Prezentacja programu PowerPoint</dc:title>
</cp:coreProperties>
</file>